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729-5673-42BE-9088-47076652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395-2716-4882-994A-F315CAED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17C-9035-41BA-A236-68517953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CC4-D6BF-477C-B05F-25B9D159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52E-A1CD-445C-BA0C-138B489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3CE-D36A-48FA-8682-FD3469F6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185-066B-49E1-9A2D-339FEE4B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EAC-6D0E-40C9-A5EA-1840A808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A6F-9590-427C-A4F6-F329F0F4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BC6-A27D-45CC-B756-4104B1FA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E76-65E9-4FE2-80FE-79897E8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DB2-5776-4411-902B-31B5B7D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AC26-F266-4086-B933-4E8B45FD0F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Destruction of Sennacher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ord By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ssyri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f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h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alil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st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orr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strown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l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sh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en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unsmo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160020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.e. Sennacherib, King of Assyria (705–681 B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lock of sheep in a sheep-p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ro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.e. Sea of Galilee, a lake in northern Isra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ext mo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archaic word for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ewn) scat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literally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ong wind;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figuratively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vine an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mo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pital of the Assyrian Emp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gan fertility god worshipped in ancient ti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on who is not Jewish, i.e. here, Sennacheri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ot stru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483920"/>
            <a:ext cx="172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quatrai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napa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trameter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95280" y="1484280"/>
            <a:ext cx="6491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stanza of four lines, often having alternate rhy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unstressed syllables followed by one stressed syllabl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ne of verse containing four stressed syll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ds beginning with the same consonant sound, often used to emphasise a particular point in a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25:31Z</dcterms:modified>
  <cp:revision>41</cp:revision>
  <dc:subject/>
  <dc:title>La Belle Dame Sans Merci</dc:title>
</cp:coreProperties>
</file>